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AE99-5CDA-4960-8B83-987FF68B0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593E-A7BF-4281-A6E6-343D0B2DF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E48E-4B66-45C3-AD2C-0CF19857B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F616-E8B1-432D-8299-AB0667158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87C8-F10C-43F5-9E3D-32C707AD2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9D23-EBE1-4702-A31C-8B2C694E5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BB0-34F8-4FEF-B0B1-41895391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45B-7532-4001-8B4F-143AE491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536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764-4E0D-4446-B58E-7EAC21A9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8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30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8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30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5E4-C020-4A1F-8129-724B747C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F2C-0742-4211-B76D-21FEEA2A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195-4DD6-41B0-A114-8D3D68EB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380-65AF-462E-8780-F4A1F590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FB6-C379-4A09-8784-24D0BC4E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10666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F72-C74E-49FB-9C4B-433E0BB0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E2B-DCB7-461A-8D56-111F8532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536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0CF-C40F-44D9-B514-8AE5F397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4D3-59FB-492A-A1F7-B824D698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IABriefingTemplateMaster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DIA_logEnhanced"/>
          <p:cNvPicPr/>
          <p:nvPr/>
        </p:nvPicPr>
        <p:blipFill>
          <a:blip r:embed="rId3"/>
          <a:stretch/>
        </p:blipFill>
        <p:spPr>
          <a:xfrm>
            <a:off x="295200" y="111240"/>
            <a:ext cx="793800" cy="793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6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0161-1424-4485-A6A5-337E4B483D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72200" y="685800"/>
            <a:ext cx="2438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Underground Facility Analysis Ce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http://www.motherjones.com/files/images/Blog_DNI_Seal.jpg"/>
          <p:cNvPicPr/>
          <p:nvPr/>
        </p:nvPicPr>
        <p:blipFill>
          <a:blip r:embed="rId4"/>
          <a:stretch/>
        </p:blipFill>
        <p:spPr>
          <a:xfrm>
            <a:off x="8610480" y="6094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79AA-DFB1-4166-86B2-9A914B22E2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just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380880" y="1058760"/>
            <a:ext cx="830592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Black"/>
              </a:rPr>
              <a:t>Military Geo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 Black"/>
              </a:rPr>
              <a:t>Mr. Gunnar J. Radel, 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 Black"/>
              </a:rPr>
              <a:t>14 Jun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riefing is 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IA_logEnhanced"/>
          <p:cNvPicPr/>
          <p:nvPr/>
        </p:nvPicPr>
        <p:blipFill>
          <a:blip r:embed="rId2"/>
          <a:stretch/>
        </p:blipFill>
        <p:spPr>
          <a:xfrm>
            <a:off x="3392640" y="1752480"/>
            <a:ext cx="2373120" cy="23734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6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Israel Gaza"/>
          <p:cNvPicPr/>
          <p:nvPr/>
        </p:nvPicPr>
        <p:blipFill>
          <a:blip r:embed="rId1"/>
          <a:stretch/>
        </p:blipFill>
        <p:spPr>
          <a:xfrm>
            <a:off x="277920" y="1523880"/>
            <a:ext cx="8588160" cy="4810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143000" y="53352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3713-7566-490A-A58B-F140362FBA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eophysical sens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eophysical analyt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rugs tunnels"/>
          <p:cNvPicPr/>
          <p:nvPr/>
        </p:nvPicPr>
        <p:blipFill>
          <a:blip r:embed="rId1"/>
          <a:srcRect l="17501" t="0" r="27500" b="0"/>
          <a:stretch/>
        </p:blipFill>
        <p:spPr>
          <a:xfrm>
            <a:off x="5867280" y="1371600"/>
            <a:ext cx="2973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BCF2-18D8-4CE1-8BCA-D9734D7FDB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87692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space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and below), sea,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, locate, character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ndestine tunnel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, low resolution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 resoluti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delity local interro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G_0254.JPG"/>
          <p:cNvPicPr/>
          <p:nvPr/>
        </p:nvPicPr>
        <p:blipFill>
          <a:blip r:embed="rId1"/>
          <a:stretch/>
        </p:blipFill>
        <p:spPr>
          <a:xfrm>
            <a:off x="5410080" y="1219320"/>
            <a:ext cx="3516480" cy="25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SpecGram1246251174"/>
          <p:cNvPicPr/>
          <p:nvPr/>
        </p:nvPicPr>
        <p:blipFill>
          <a:blip r:embed="rId2"/>
          <a:srcRect l="4967" t="0" r="3934" b="7269"/>
          <a:stretch/>
        </p:blipFill>
        <p:spPr>
          <a:xfrm>
            <a:off x="5370480" y="3733920"/>
            <a:ext cx="3581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Key Geophysical Sensing Need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ng in a non-lab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D does not typically build v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processing on node prior to ex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and power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-offs (minimize reduction in sensitivity or 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obust and resilient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duction in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ensitivity locked until sensor is 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ors that do not require frequent or lengthy calib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aker h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cancellation versus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sensor concepts for noise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GPS time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ookups"/>
          <p:cNvPicPr/>
          <p:nvPr/>
        </p:nvPicPr>
        <p:blipFill>
          <a:blip r:embed="rId1"/>
          <a:srcRect l="0" t="0" r="4316" b="20168"/>
          <a:stretch/>
        </p:blipFill>
        <p:spPr>
          <a:xfrm>
            <a:off x="6172200" y="1447920"/>
            <a:ext cx="2666880" cy="1668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Key Geophysical Analysis Need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5559480" y="3774960"/>
            <a:ext cx="3584520" cy="2854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334120" y="6137280"/>
            <a:ext cx="1676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irles, et. al: “Advancements In Subsurface Modeling Using Seismic Refraction Data”, SAGEEP 2006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of seismic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out placing sensor over the top of the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infrasound and meteorolog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computation, interpretation of local &amp; regional synth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s most with moving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optimized analytic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sunamigenic source function and propagatio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domain data fusion (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ingle geophysical method is applicable everywh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ismic (active and pass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oustic, Infras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magnetic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s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penetrating ra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atabase of future sensor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download of .css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us seed format download and unp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otechnical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(clays, magnetite, sa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s, fractures, joints, bedding, paleo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wat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smic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ttp://geomaps.wr.usgs.gov/socal/geology/inland_empire/images/san_andreas_fault.jpg"/>
          <p:cNvPicPr/>
          <p:nvPr/>
        </p:nvPicPr>
        <p:blipFill>
          <a:blip r:embed="rId1"/>
          <a:srcRect l="17719" t="8253" r="7309" b="24303"/>
          <a:stretch/>
        </p:blipFill>
        <p:spPr>
          <a:xfrm>
            <a:off x="3962520" y="3448080"/>
            <a:ext cx="4876560" cy="2844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Environmental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ve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://daniellmiddle.typepad.com/.a/6a00d83453a09469e201156f88be5b970c-800wi"/>
          <p:cNvPicPr/>
          <p:nvPr/>
        </p:nvPicPr>
        <p:blipFill>
          <a:blip r:embed="rId1"/>
          <a:stretch/>
        </p:blipFill>
        <p:spPr>
          <a:xfrm>
            <a:off x="5638680" y="1752480"/>
            <a:ext cx="3245040" cy="4579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Man-made Clutter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ban 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, Telephone,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, Sewer,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y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 -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, F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http://www.massturnpike.com/img/big_dig/backgrd/utility01.jpeg"/>
          <p:cNvPicPr/>
          <p:nvPr/>
        </p:nvPicPr>
        <p:blipFill>
          <a:blip r:embed="rId1"/>
          <a:stretch/>
        </p:blipFill>
        <p:spPr>
          <a:xfrm>
            <a:off x="5424480" y="1828800"/>
            <a:ext cx="3452760" cy="4419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10666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(Field Horror St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justpressplay.net/images/stories/them_giant_ant.jpg"/>
          <p:cNvPicPr/>
          <p:nvPr/>
        </p:nvPicPr>
        <p:blipFill>
          <a:blip r:embed="rId1"/>
          <a:stretch/>
        </p:blipFill>
        <p:spPr>
          <a:xfrm>
            <a:off x="6477120" y="1295280"/>
            <a:ext cx="2361960" cy="3070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ft138nb0zm_00027.jpg image by damnedrodan"/>
          <p:cNvPicPr/>
          <p:nvPr/>
        </p:nvPicPr>
        <p:blipFill>
          <a:blip r:embed="rId2"/>
          <a:stretch/>
        </p:blipFill>
        <p:spPr>
          <a:xfrm>
            <a:off x="6477120" y="4572000"/>
            <a:ext cx="2400120" cy="1787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066680" y="1828800"/>
            <a:ext cx="51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ing data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quantity and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interference &amp; friendly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20:05Z</dcterms:created>
  <dc:creator>DAN2</dc:creator>
  <dc:description/>
  <dc:language>en-US</dc:language>
  <cp:lastModifiedBy>jtrichelson</cp:lastModifiedBy>
  <dcterms:modified xsi:type="dcterms:W3CDTF">2012-01-22T22:02:55Z</dcterms:modified>
  <cp:revision>70</cp:revision>
  <dc:subject/>
  <dc:title>PowerPoint Presentation</dc:title>
</cp:coreProperties>
</file>