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57A0-E1F8-49B9-ADA4-716A5164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D4E7-74B6-4634-90DD-81DAFB3D2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9910-B506-4DC9-83B4-0399820B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E75E-9996-4E40-87CE-7DD5A7D3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4076-AD2D-4A51-A03C-4724312DC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B5AA-58FF-49C0-8559-F5B53B4DE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8F6-7567-42EC-BFF2-D89D396B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879-7268-4BCB-9620-C5B797F4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AE6-5B98-4380-A88A-C6D60CD8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8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30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8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30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061-4B58-4B7E-8BB8-4A833D86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CB7-8975-421B-B2DF-2C8308DB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43C-7DCC-4624-A484-B17A00A5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CD7-2D37-49BF-A87E-2A64786E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5AC-0F2D-49EC-B6E2-8B7F0070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0666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330-8309-4807-9DA0-39E16A44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A63-456E-43D7-AA42-D303B0E3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460-43C5-4C22-B6DD-95142A7E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329-FCFD-40B1-A36C-40EE170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IABriefingTemplateMaster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DIA_logEnhanced"/>
          <p:cNvPicPr/>
          <p:nvPr/>
        </p:nvPicPr>
        <p:blipFill>
          <a:blip r:embed="rId3"/>
          <a:stretch/>
        </p:blipFill>
        <p:spPr>
          <a:xfrm>
            <a:off x="295200" y="111240"/>
            <a:ext cx="793800" cy="793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CA1B-01B2-4C94-86CE-7E63A2FD82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72200" y="685800"/>
            <a:ext cx="2438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Underground Facility Analysis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http://www.motherjones.com/files/images/Blog_DNI_Seal.jpg"/>
          <p:cNvPicPr/>
          <p:nvPr/>
        </p:nvPicPr>
        <p:blipFill>
          <a:blip r:embed="rId4"/>
          <a:stretch/>
        </p:blipFill>
        <p:spPr>
          <a:xfrm>
            <a:off x="8610480" y="6094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02CB-1287-4804-AE23-8097B17912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just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80880" y="1058760"/>
            <a:ext cx="830592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Black"/>
              </a:rPr>
              <a:t>Military Geo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 Black"/>
              </a:rPr>
              <a:t>Mr. Gunnar J. Radel, 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 Black"/>
              </a:rPr>
              <a:t>14 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iefing is 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A_logEnhanced"/>
          <p:cNvPicPr/>
          <p:nvPr/>
        </p:nvPicPr>
        <p:blipFill>
          <a:blip r:embed="rId2"/>
          <a:stretch/>
        </p:blipFill>
        <p:spPr>
          <a:xfrm>
            <a:off x="3392640" y="1752480"/>
            <a:ext cx="2373120" cy="2373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srael Gaza"/>
          <p:cNvPicPr/>
          <p:nvPr/>
        </p:nvPicPr>
        <p:blipFill>
          <a:blip r:embed="rId1"/>
          <a:stretch/>
        </p:blipFill>
        <p:spPr>
          <a:xfrm>
            <a:off x="277920" y="1523880"/>
            <a:ext cx="8588160" cy="4810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143000" y="5335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0B37-33CF-4295-AC33-50F8A3E51F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sens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analyt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rugs tunnels"/>
          <p:cNvPicPr/>
          <p:nvPr/>
        </p:nvPicPr>
        <p:blipFill>
          <a:blip r:embed="rId1"/>
          <a:srcRect l="17501" t="0" r="27500" b="0"/>
          <a:stretch/>
        </p:blipFill>
        <p:spPr>
          <a:xfrm>
            <a:off x="5867280" y="1371600"/>
            <a:ext cx="2973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CB44-40B0-4F5F-81EE-5CC2AED118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7692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space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and below), sea,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, locate, character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ndestine tunnel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, low resolu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 resoluti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delity local interro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G_0254.JPG"/>
          <p:cNvPicPr/>
          <p:nvPr/>
        </p:nvPicPr>
        <p:blipFill>
          <a:blip r:embed="rId1"/>
          <a:stretch/>
        </p:blipFill>
        <p:spPr>
          <a:xfrm>
            <a:off x="5410080" y="1219320"/>
            <a:ext cx="351648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SpecGram1246251174"/>
          <p:cNvPicPr/>
          <p:nvPr/>
        </p:nvPicPr>
        <p:blipFill>
          <a:blip r:embed="rId2"/>
          <a:srcRect l="4967" t="0" r="3934" b="7269"/>
          <a:stretch/>
        </p:blipFill>
        <p:spPr>
          <a:xfrm>
            <a:off x="5370480" y="3733920"/>
            <a:ext cx="3581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Sensing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ng in a non-lab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D does not typically build v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cessing on node prior to ex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and power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-offs (minimize reduction in sensitivity or 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obust and resilient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duction in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ensitivity locked until sensor is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s that do not require frequent or lengthy calib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aker h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ancellation versus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ensor concepts for nois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GPS time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ookups"/>
          <p:cNvPicPr/>
          <p:nvPr/>
        </p:nvPicPr>
        <p:blipFill>
          <a:blip r:embed="rId1"/>
          <a:srcRect l="0" t="0" r="4316" b="20168"/>
          <a:stretch/>
        </p:blipFill>
        <p:spPr>
          <a:xfrm>
            <a:off x="6172200" y="1447920"/>
            <a:ext cx="2666880" cy="1668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Analysis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5559480" y="3774960"/>
            <a:ext cx="3584520" cy="2854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334120" y="6137280"/>
            <a:ext cx="167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rles, et. al: “Advancements In Subsurface Modeling Using Seismic Refraction Data”, SAGEEP 200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of seismic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 placing sensor over the top of the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infrasound and meteorolog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computation, interpretation of local &amp; regional synth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s most with moving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optimized analytic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sunamigenic source function and propagatio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domain data fusion (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ingle geophysical method is applicable everyw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ismic (active and pas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ustic, Infra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magnetic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penetrating 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atabase of future sensor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download of .css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us seed format download and unp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otechnic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(clays, magnetite, s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s, fractures, joints, bedding, paleo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wa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smic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geomaps.wr.usgs.gov/socal/geology/inland_empire/images/san_andreas_fault.jpg"/>
          <p:cNvPicPr/>
          <p:nvPr/>
        </p:nvPicPr>
        <p:blipFill>
          <a:blip r:embed="rId1"/>
          <a:srcRect l="17719" t="8253" r="7309" b="24303"/>
          <a:stretch/>
        </p:blipFill>
        <p:spPr>
          <a:xfrm>
            <a:off x="3962520" y="3448080"/>
            <a:ext cx="4876560" cy="2844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nvironment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ve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daniellmiddle.typepad.com/.a/6a00d83453a09469e201156f88be5b970c-800wi"/>
          <p:cNvPicPr/>
          <p:nvPr/>
        </p:nvPicPr>
        <p:blipFill>
          <a:blip r:embed="rId1"/>
          <a:stretch/>
        </p:blipFill>
        <p:spPr>
          <a:xfrm>
            <a:off x="5638680" y="1752480"/>
            <a:ext cx="3245040" cy="4579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Man-made Clutter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, Telephone,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, Sewer,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y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-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, F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ttp://www.massturnpike.com/img/big_dig/backgrd/utility01.jpeg"/>
          <p:cNvPicPr/>
          <p:nvPr/>
        </p:nvPicPr>
        <p:blipFill>
          <a:blip r:embed="rId1"/>
          <a:stretch/>
        </p:blipFill>
        <p:spPr>
          <a:xfrm>
            <a:off x="5424480" y="1828800"/>
            <a:ext cx="3452760" cy="4419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0666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(Field Horror S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justpressplay.net/images/stories/them_giant_ant.jpg"/>
          <p:cNvPicPr/>
          <p:nvPr/>
        </p:nvPicPr>
        <p:blipFill>
          <a:blip r:embed="rId1"/>
          <a:stretch/>
        </p:blipFill>
        <p:spPr>
          <a:xfrm>
            <a:off x="6477120" y="1295280"/>
            <a:ext cx="2361960" cy="307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ft138nb0zm_00027.jpg image by damnedrodan"/>
          <p:cNvPicPr/>
          <p:nvPr/>
        </p:nvPicPr>
        <p:blipFill>
          <a:blip r:embed="rId2"/>
          <a:stretch/>
        </p:blipFill>
        <p:spPr>
          <a:xfrm>
            <a:off x="6477120" y="4572000"/>
            <a:ext cx="2400120" cy="1787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066680" y="1828800"/>
            <a:ext cx="51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ing dat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quantity and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interference &amp; friendly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20:05Z</dcterms:created>
  <dc:creator>DAN2</dc:creator>
  <dc:description/>
  <dc:language>en-US</dc:language>
  <cp:lastModifiedBy>jtrichelson</cp:lastModifiedBy>
  <dcterms:modified xsi:type="dcterms:W3CDTF">2012-01-22T22:02:55Z</dcterms:modified>
  <cp:revision>70</cp:revision>
  <dc:subject/>
  <dc:title>PowerPoint Presentation</dc:title>
</cp:coreProperties>
</file>